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4F5EE-44B3-4E07-9DA0-E1140AD2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A841-2D74-49C6-BA08-35BF2949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43EB-9812-41A4-874E-B70B95D8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B494-4AF5-4F10-AEC8-4256673F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F713-432B-4E63-8373-3DF5D863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E121-E2E3-4767-B376-66D88D12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D4F5-217F-43F8-92B9-DD8CBAB2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C739-8A68-4357-9953-08C50CFE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213D-897C-403B-93FF-64A82587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B6E0-B073-4079-A8C0-45081420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7360-ED5C-4A2E-BC27-542EE16D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121A-EF2B-4F28-A1E3-F123D7A4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2248-9DB1-47E2-A220-5608529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D4C3-5B72-4BBF-9BA0-80827B6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2F78-087E-4565-84D2-0129377C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408F-A43A-4910-B779-2D6E73C8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949C-772C-4995-8E80-A51DB398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02F5-9C58-4D59-9689-F6E4DCA8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1E35-B0BA-48FE-912B-42B43CF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F49D-71B6-48A1-A6EE-027CA721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52FF-C951-47F8-943C-9A2974D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6E98-2DA6-44AF-81F5-B67814A5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B21A-BDC1-4F4A-96F6-11E985A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59FC-F141-4F47-9645-9A0E2870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0B0A-CA23-4D47-8926-9D76EF44F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6227-1559-482B-A068-5E0FBD579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360" y="1953720"/>
            <a:ext cx="764712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intext into a matrix by rows, then generate the ciphertext by selecting the columns in a given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given the plaintext “encryption algorithms” and a 5x4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049840" y="4952880"/>
            <a:ext cx="272160" cy="278280"/>
            <a:chOff x="2049840" y="4952880"/>
            <a:chExt cx="272160" cy="278280"/>
          </a:xfrm>
        </p:grpSpPr>
        <p:sp>
          <p:nvSpPr>
            <p:cNvPr id="116" name=""/>
            <p:cNvSpPr/>
            <p:nvPr/>
          </p:nvSpPr>
          <p:spPr>
            <a:xfrm>
              <a:off x="205416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8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83080" y="4952880"/>
            <a:ext cx="272160" cy="278280"/>
            <a:chOff x="1783080" y="4952880"/>
            <a:chExt cx="272160" cy="278280"/>
          </a:xfrm>
        </p:grpSpPr>
        <p:sp>
          <p:nvSpPr>
            <p:cNvPr id="119" name=""/>
            <p:cNvSpPr/>
            <p:nvPr/>
          </p:nvSpPr>
          <p:spPr>
            <a:xfrm>
              <a:off x="178740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308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6040" y="4952880"/>
            <a:ext cx="272160" cy="278280"/>
            <a:chOff x="1526040" y="49528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530360" y="4952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60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49560" y="4952880"/>
            <a:ext cx="272160" cy="278280"/>
            <a:chOff x="1249560" y="49528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25388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4956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49840" y="5219640"/>
            <a:ext cx="272160" cy="277920"/>
            <a:chOff x="2049840" y="5219640"/>
            <a:chExt cx="272160" cy="277920"/>
          </a:xfrm>
        </p:grpSpPr>
        <p:sp>
          <p:nvSpPr>
            <p:cNvPr id="128" name=""/>
            <p:cNvSpPr/>
            <p:nvPr/>
          </p:nvSpPr>
          <p:spPr>
            <a:xfrm>
              <a:off x="205416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98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83080" y="5219640"/>
            <a:ext cx="272160" cy="277920"/>
            <a:chOff x="1783080" y="5219640"/>
            <a:chExt cx="272160" cy="277920"/>
          </a:xfrm>
        </p:grpSpPr>
        <p:sp>
          <p:nvSpPr>
            <p:cNvPr id="131" name=""/>
            <p:cNvSpPr/>
            <p:nvPr/>
          </p:nvSpPr>
          <p:spPr>
            <a:xfrm>
              <a:off x="178740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308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6040" y="5219640"/>
            <a:ext cx="272160" cy="277920"/>
            <a:chOff x="1526040" y="5219640"/>
            <a:chExt cx="272160" cy="277920"/>
          </a:xfrm>
        </p:grpSpPr>
        <p:sp>
          <p:nvSpPr>
            <p:cNvPr id="134" name=""/>
            <p:cNvSpPr/>
            <p:nvPr/>
          </p:nvSpPr>
          <p:spPr>
            <a:xfrm>
              <a:off x="1530360" y="52196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60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49560" y="5219640"/>
            <a:ext cx="272160" cy="277920"/>
            <a:chOff x="1249560" y="5219640"/>
            <a:chExt cx="272160" cy="277920"/>
          </a:xfrm>
        </p:grpSpPr>
        <p:sp>
          <p:nvSpPr>
            <p:cNvPr id="137" name=""/>
            <p:cNvSpPr/>
            <p:nvPr/>
          </p:nvSpPr>
          <p:spPr>
            <a:xfrm>
              <a:off x="125388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4956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49840" y="5486400"/>
            <a:ext cx="272160" cy="277920"/>
            <a:chOff x="2049840" y="5486400"/>
            <a:chExt cx="272160" cy="277920"/>
          </a:xfrm>
        </p:grpSpPr>
        <p:sp>
          <p:nvSpPr>
            <p:cNvPr id="140" name=""/>
            <p:cNvSpPr/>
            <p:nvPr/>
          </p:nvSpPr>
          <p:spPr>
            <a:xfrm>
              <a:off x="205416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98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83080" y="5486400"/>
            <a:ext cx="272160" cy="277920"/>
            <a:chOff x="1783080" y="5486400"/>
            <a:chExt cx="272160" cy="277920"/>
          </a:xfrm>
        </p:grpSpPr>
        <p:sp>
          <p:nvSpPr>
            <p:cNvPr id="143" name=""/>
            <p:cNvSpPr/>
            <p:nvPr/>
          </p:nvSpPr>
          <p:spPr>
            <a:xfrm>
              <a:off x="178740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308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6040" y="5486400"/>
            <a:ext cx="272160" cy="277920"/>
            <a:chOff x="1526040" y="5486400"/>
            <a:chExt cx="272160" cy="277920"/>
          </a:xfrm>
        </p:grpSpPr>
        <p:sp>
          <p:nvSpPr>
            <p:cNvPr id="146" name=""/>
            <p:cNvSpPr/>
            <p:nvPr/>
          </p:nvSpPr>
          <p:spPr>
            <a:xfrm>
              <a:off x="1530360" y="54864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49560" y="5486400"/>
            <a:ext cx="272160" cy="277920"/>
            <a:chOff x="1249560" y="5486400"/>
            <a:chExt cx="272160" cy="277920"/>
          </a:xfrm>
        </p:grpSpPr>
        <p:sp>
          <p:nvSpPr>
            <p:cNvPr id="149" name=""/>
            <p:cNvSpPr/>
            <p:nvPr/>
          </p:nvSpPr>
          <p:spPr>
            <a:xfrm>
              <a:off x="125388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56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49840" y="5753160"/>
            <a:ext cx="272160" cy="277920"/>
            <a:chOff x="2049840" y="5753160"/>
            <a:chExt cx="272160" cy="277920"/>
          </a:xfrm>
        </p:grpSpPr>
        <p:sp>
          <p:nvSpPr>
            <p:cNvPr id="152" name=""/>
            <p:cNvSpPr/>
            <p:nvPr/>
          </p:nvSpPr>
          <p:spPr>
            <a:xfrm>
              <a:off x="205416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98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83080" y="5753160"/>
            <a:ext cx="272160" cy="277920"/>
            <a:chOff x="1783080" y="5753160"/>
            <a:chExt cx="272160" cy="277920"/>
          </a:xfrm>
        </p:grpSpPr>
        <p:sp>
          <p:nvSpPr>
            <p:cNvPr id="155" name=""/>
            <p:cNvSpPr/>
            <p:nvPr/>
          </p:nvSpPr>
          <p:spPr>
            <a:xfrm>
              <a:off x="178740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308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6040" y="5753160"/>
            <a:ext cx="272160" cy="277920"/>
            <a:chOff x="1526040" y="5753160"/>
            <a:chExt cx="272160" cy="277920"/>
          </a:xfrm>
        </p:grpSpPr>
        <p:sp>
          <p:nvSpPr>
            <p:cNvPr id="158" name=""/>
            <p:cNvSpPr/>
            <p:nvPr/>
          </p:nvSpPr>
          <p:spPr>
            <a:xfrm>
              <a:off x="1530360" y="57531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60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49560" y="5753160"/>
            <a:ext cx="272160" cy="277920"/>
            <a:chOff x="1249560" y="5753160"/>
            <a:chExt cx="272160" cy="277920"/>
          </a:xfrm>
        </p:grpSpPr>
        <p:sp>
          <p:nvSpPr>
            <p:cNvPr id="161" name=""/>
            <p:cNvSpPr/>
            <p:nvPr/>
          </p:nvSpPr>
          <p:spPr>
            <a:xfrm>
              <a:off x="125388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56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49840" y="6010200"/>
            <a:ext cx="272160" cy="278280"/>
            <a:chOff x="2049840" y="601020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205416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98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83080" y="6010200"/>
            <a:ext cx="272160" cy="278280"/>
            <a:chOff x="1783080" y="601020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178740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08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6040" y="6010200"/>
            <a:ext cx="272160" cy="278280"/>
            <a:chOff x="1526040" y="601020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1530360" y="601020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49560" y="6010200"/>
            <a:ext cx="272160" cy="278280"/>
            <a:chOff x="1249560" y="601020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125388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956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173760" y="5629320"/>
            <a:ext cx="1338480" cy="277920"/>
            <a:chOff x="3173760" y="5629320"/>
            <a:chExt cx="1338480" cy="277920"/>
          </a:xfrm>
        </p:grpSpPr>
        <p:grpSp>
          <p:nvGrpSpPr>
            <p:cNvPr id="176" name=""/>
            <p:cNvGrpSpPr/>
            <p:nvPr/>
          </p:nvGrpSpPr>
          <p:grpSpPr>
            <a:xfrm>
              <a:off x="3983040" y="5629320"/>
              <a:ext cx="272160" cy="277920"/>
              <a:chOff x="3983040" y="562932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8736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30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0080" y="5629320"/>
              <a:ext cx="272160" cy="277920"/>
              <a:chOff x="4240080" y="5629320"/>
              <a:chExt cx="272160" cy="277920"/>
            </a:xfrm>
          </p:grpSpPr>
          <p:sp>
            <p:nvSpPr>
              <p:cNvPr id="180" name=""/>
              <p:cNvSpPr/>
              <p:nvPr/>
            </p:nvSpPr>
            <p:spPr>
              <a:xfrm>
                <a:off x="42444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400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16280" y="5629320"/>
              <a:ext cx="272160" cy="277920"/>
              <a:chOff x="3716280" y="5629320"/>
              <a:chExt cx="272160" cy="277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206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9520" y="5629320"/>
              <a:ext cx="272160" cy="277920"/>
              <a:chOff x="3449520" y="5629320"/>
              <a:chExt cx="272160" cy="27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3453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73760" y="5629320"/>
              <a:ext cx="272160" cy="277920"/>
              <a:chOff x="3173760" y="5629320"/>
              <a:chExt cx="272160" cy="27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7808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3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233360" y="4657680"/>
            <a:ext cx="1095120" cy="377640"/>
            <a:chOff x="1233360" y="4657680"/>
            <a:chExt cx="1095120" cy="377640"/>
          </a:xfrm>
        </p:grpSpPr>
        <p:sp>
          <p:nvSpPr>
            <p:cNvPr id="192" name=""/>
            <p:cNvSpPr/>
            <p:nvPr/>
          </p:nvSpPr>
          <p:spPr>
            <a:xfrm>
              <a:off x="12333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85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60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328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69800" y="4867200"/>
            <a:ext cx="47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 the columns in the order 4 - 2 - 1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78800" y="4095720"/>
            <a:ext cx="1037880" cy="838080"/>
            <a:chOff x="6778800" y="4095720"/>
            <a:chExt cx="1037880" cy="838080"/>
          </a:xfrm>
        </p:grpSpPr>
        <p:sp>
          <p:nvSpPr>
            <p:cNvPr id="198" name=""/>
            <p:cNvSpPr/>
            <p:nvPr/>
          </p:nvSpPr>
          <p:spPr>
            <a:xfrm>
              <a:off x="6868800" y="4095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8800" y="493380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42908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73360" y="4952880"/>
            <a:ext cx="280800" cy="1326240"/>
            <a:chOff x="1773360" y="4952880"/>
            <a:chExt cx="280800" cy="1326240"/>
          </a:xfrm>
        </p:grpSpPr>
        <p:grpSp>
          <p:nvGrpSpPr>
            <p:cNvPr id="202" name=""/>
            <p:cNvGrpSpPr/>
            <p:nvPr/>
          </p:nvGrpSpPr>
          <p:grpSpPr>
            <a:xfrm>
              <a:off x="1773360" y="4952880"/>
              <a:ext cx="280800" cy="278280"/>
              <a:chOff x="1773360" y="4952880"/>
              <a:chExt cx="280800" cy="27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78740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36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773360" y="5210280"/>
              <a:ext cx="280800" cy="278280"/>
              <a:chOff x="1773360" y="5210280"/>
              <a:chExt cx="280800" cy="27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78740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7336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773360" y="5476680"/>
              <a:ext cx="280800" cy="278280"/>
              <a:chOff x="1773360" y="5476680"/>
              <a:chExt cx="280800" cy="27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8740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7336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73360" y="5743440"/>
              <a:ext cx="280800" cy="278280"/>
              <a:chOff x="1773360" y="5743440"/>
              <a:chExt cx="280800" cy="27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178740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7336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73360" y="6000840"/>
              <a:ext cx="280800" cy="278280"/>
              <a:chOff x="1773360" y="6000840"/>
              <a:chExt cx="280800" cy="2782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8740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336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2049840" y="4952880"/>
            <a:ext cx="280080" cy="1326240"/>
            <a:chOff x="2049840" y="4952880"/>
            <a:chExt cx="280080" cy="1326240"/>
          </a:xfrm>
        </p:grpSpPr>
        <p:grpSp>
          <p:nvGrpSpPr>
            <p:cNvPr id="218" name=""/>
            <p:cNvGrpSpPr/>
            <p:nvPr/>
          </p:nvGrpSpPr>
          <p:grpSpPr>
            <a:xfrm>
              <a:off x="2049840" y="4952880"/>
              <a:ext cx="280080" cy="278280"/>
              <a:chOff x="2049840" y="4952880"/>
              <a:chExt cx="280080" cy="278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063520" y="49528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984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49840" y="5210280"/>
              <a:ext cx="280080" cy="278280"/>
              <a:chOff x="2049840" y="5210280"/>
              <a:chExt cx="280080" cy="278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63520" y="52102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4984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49840" y="5476680"/>
              <a:ext cx="280080" cy="278280"/>
              <a:chOff x="2049840" y="5476680"/>
              <a:chExt cx="280080" cy="27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063520" y="54766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4984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049840" y="5743440"/>
              <a:ext cx="280080" cy="278280"/>
              <a:chOff x="2049840" y="5743440"/>
              <a:chExt cx="280080" cy="278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063520" y="57434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984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049840" y="6000840"/>
              <a:ext cx="280080" cy="278280"/>
              <a:chOff x="2049840" y="6000840"/>
              <a:chExt cx="280080" cy="27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063520" y="60008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984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2390760" y="5457960"/>
            <a:ext cx="6573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21320" y="5629320"/>
            <a:ext cx="1339200" cy="277920"/>
            <a:chOff x="4621320" y="5629320"/>
            <a:chExt cx="1339200" cy="277920"/>
          </a:xfrm>
        </p:grpSpPr>
        <p:grpSp>
          <p:nvGrpSpPr>
            <p:cNvPr id="235" name=""/>
            <p:cNvGrpSpPr/>
            <p:nvPr/>
          </p:nvGrpSpPr>
          <p:grpSpPr>
            <a:xfrm>
              <a:off x="5430960" y="5629320"/>
              <a:ext cx="272160" cy="277920"/>
              <a:chOff x="5430960" y="5629320"/>
              <a:chExt cx="272160" cy="277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352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09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88360" y="5629320"/>
              <a:ext cx="272160" cy="277920"/>
              <a:chOff x="5688360" y="5629320"/>
              <a:chExt cx="272160" cy="277920"/>
            </a:xfrm>
          </p:grpSpPr>
          <p:sp>
            <p:nvSpPr>
              <p:cNvPr id="239" name=""/>
              <p:cNvSpPr/>
              <p:nvPr/>
            </p:nvSpPr>
            <p:spPr>
              <a:xfrm>
                <a:off x="56926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83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164560" y="5629320"/>
              <a:ext cx="272160" cy="277920"/>
              <a:chOff x="5164560" y="5629320"/>
              <a:chExt cx="272160" cy="277920"/>
            </a:xfrm>
          </p:grpSpPr>
          <p:sp>
            <p:nvSpPr>
              <p:cNvPr id="242" name=""/>
              <p:cNvSpPr/>
              <p:nvPr/>
            </p:nvSpPr>
            <p:spPr>
              <a:xfrm>
                <a:off x="5168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897800" y="5629320"/>
              <a:ext cx="272160" cy="277920"/>
              <a:chOff x="4897800" y="5629320"/>
              <a:chExt cx="272160" cy="277920"/>
            </a:xfrm>
          </p:grpSpPr>
          <p:sp>
            <p:nvSpPr>
              <p:cNvPr id="245" name=""/>
              <p:cNvSpPr/>
              <p:nvPr/>
            </p:nvSpPr>
            <p:spPr>
              <a:xfrm>
                <a:off x="49021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78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621320" y="5629320"/>
              <a:ext cx="272160" cy="277920"/>
              <a:chOff x="4621320" y="5629320"/>
              <a:chExt cx="27216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6256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213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069240" y="5629320"/>
            <a:ext cx="1339200" cy="277920"/>
            <a:chOff x="6069240" y="5629320"/>
            <a:chExt cx="1339200" cy="277920"/>
          </a:xfrm>
        </p:grpSpPr>
        <p:grpSp>
          <p:nvGrpSpPr>
            <p:cNvPr id="251" name=""/>
            <p:cNvGrpSpPr/>
            <p:nvPr/>
          </p:nvGrpSpPr>
          <p:grpSpPr>
            <a:xfrm>
              <a:off x="6878880" y="5629320"/>
              <a:ext cx="272160" cy="277920"/>
              <a:chOff x="6878880" y="5629320"/>
              <a:chExt cx="272160" cy="27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68832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88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136280" y="5629320"/>
              <a:ext cx="272160" cy="277920"/>
              <a:chOff x="7136280" y="5629320"/>
              <a:chExt cx="272160" cy="277920"/>
            </a:xfrm>
          </p:grpSpPr>
          <p:sp>
            <p:nvSpPr>
              <p:cNvPr id="255" name=""/>
              <p:cNvSpPr/>
              <p:nvPr/>
            </p:nvSpPr>
            <p:spPr>
              <a:xfrm>
                <a:off x="71406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3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612480" y="5629320"/>
              <a:ext cx="272160" cy="277920"/>
              <a:chOff x="6612480" y="5629320"/>
              <a:chExt cx="272160" cy="277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6168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124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45720" y="5629320"/>
              <a:ext cx="272160" cy="277920"/>
              <a:chOff x="6345720" y="5629320"/>
              <a:chExt cx="272160" cy="277920"/>
            </a:xfrm>
          </p:grpSpPr>
          <p:sp>
            <p:nvSpPr>
              <p:cNvPr id="261" name=""/>
              <p:cNvSpPr/>
              <p:nvPr/>
            </p:nvSpPr>
            <p:spPr>
              <a:xfrm>
                <a:off x="635004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57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69240" y="5629320"/>
              <a:ext cx="272160" cy="277920"/>
              <a:chOff x="6069240" y="5629320"/>
              <a:chExt cx="272160" cy="277920"/>
            </a:xfrm>
          </p:grpSpPr>
          <p:sp>
            <p:nvSpPr>
              <p:cNvPr id="264" name=""/>
              <p:cNvSpPr/>
              <p:nvPr/>
            </p:nvSpPr>
            <p:spPr>
              <a:xfrm>
                <a:off x="607356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692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7526520" y="5629320"/>
            <a:ext cx="1339200" cy="277920"/>
            <a:chOff x="7526520" y="5629320"/>
            <a:chExt cx="1339200" cy="277920"/>
          </a:xfrm>
        </p:grpSpPr>
        <p:grpSp>
          <p:nvGrpSpPr>
            <p:cNvPr id="267" name=""/>
            <p:cNvGrpSpPr/>
            <p:nvPr/>
          </p:nvGrpSpPr>
          <p:grpSpPr>
            <a:xfrm>
              <a:off x="8336160" y="5629320"/>
              <a:ext cx="272160" cy="277920"/>
              <a:chOff x="8336160" y="5629320"/>
              <a:chExt cx="27216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83404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361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93560" y="5629320"/>
              <a:ext cx="272160" cy="277920"/>
              <a:chOff x="8593560" y="5629320"/>
              <a:chExt cx="27216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8597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3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69760" y="5629320"/>
              <a:ext cx="272160" cy="277920"/>
              <a:chOff x="8069760" y="5629320"/>
              <a:chExt cx="27216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740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69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803000" y="5629320"/>
              <a:ext cx="272160" cy="277920"/>
              <a:chOff x="7803000" y="5629320"/>
              <a:chExt cx="27216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78073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030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26520" y="5629320"/>
              <a:ext cx="272160" cy="277920"/>
              <a:chOff x="7526520" y="5629320"/>
              <a:chExt cx="272160" cy="27792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0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506600" y="4952880"/>
            <a:ext cx="280800" cy="1326240"/>
            <a:chOff x="1506600" y="4952880"/>
            <a:chExt cx="280800" cy="1326240"/>
          </a:xfrm>
        </p:grpSpPr>
        <p:grpSp>
          <p:nvGrpSpPr>
            <p:cNvPr id="283" name=""/>
            <p:cNvGrpSpPr/>
            <p:nvPr/>
          </p:nvGrpSpPr>
          <p:grpSpPr>
            <a:xfrm>
              <a:off x="1506600" y="4952880"/>
              <a:ext cx="280800" cy="278280"/>
              <a:chOff x="1506600" y="4952880"/>
              <a:chExt cx="28080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06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66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06600" y="5210280"/>
              <a:ext cx="280800" cy="278280"/>
              <a:chOff x="1506600" y="5210280"/>
              <a:chExt cx="28080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06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066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06600" y="5476680"/>
              <a:ext cx="280800" cy="278280"/>
              <a:chOff x="1506600" y="5476680"/>
              <a:chExt cx="28080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206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066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06600" y="5743440"/>
              <a:ext cx="280800" cy="278280"/>
              <a:chOff x="1506600" y="5743440"/>
              <a:chExt cx="28080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5206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66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506600" y="6000840"/>
              <a:ext cx="280800" cy="278280"/>
              <a:chOff x="1506600" y="6000840"/>
              <a:chExt cx="28080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206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066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733400" y="5133960"/>
            <a:ext cx="287676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40200" y="4952880"/>
            <a:ext cx="280800" cy="1326240"/>
            <a:chOff x="1240200" y="4952880"/>
            <a:chExt cx="280800" cy="1326240"/>
          </a:xfrm>
        </p:grpSpPr>
        <p:grpSp>
          <p:nvGrpSpPr>
            <p:cNvPr id="300" name=""/>
            <p:cNvGrpSpPr/>
            <p:nvPr/>
          </p:nvGrpSpPr>
          <p:grpSpPr>
            <a:xfrm>
              <a:off x="1240200" y="4952880"/>
              <a:ext cx="280800" cy="278280"/>
              <a:chOff x="1240200" y="4952880"/>
              <a:chExt cx="280800" cy="27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2542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402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40200" y="5210280"/>
              <a:ext cx="280800" cy="278280"/>
              <a:chOff x="1240200" y="5210280"/>
              <a:chExt cx="280800" cy="27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542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402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40200" y="5476680"/>
              <a:ext cx="280800" cy="278280"/>
              <a:chOff x="1240200" y="5476680"/>
              <a:chExt cx="280800" cy="27828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42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402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40200" y="5743440"/>
              <a:ext cx="280800" cy="278280"/>
              <a:chOff x="1240200" y="5743440"/>
              <a:chExt cx="280800" cy="27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542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402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240200" y="6000840"/>
              <a:ext cx="280800" cy="278280"/>
              <a:chOff x="1240200" y="6000840"/>
              <a:chExt cx="280800" cy="27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12542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402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1486080" y="5019840"/>
            <a:ext cx="455292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5095800"/>
            <a:ext cx="54864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D384-CDBE-49F8-A2FB-E517CD2C5B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1840" y="216360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94760" y="39686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an be specified by a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5040" y="4741920"/>
            <a:ext cx="57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length of the keyword is the number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38956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of the letters in the keyword determ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in which the columns ar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35A2-7513-4F76-8930-28FCC4410B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3560" y="4896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542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14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628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55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349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1640" y="55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FAEB-B5FB-4FC9-8C02-0FB65AADDC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11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lect Column Transposition, CAP presents a key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81320" y="2263680"/>
            <a:ext cx="459108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5AEB-D7A3-4BC0-B2BB-8A51C3C1E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5T03:20:09Z</dcterms:modified>
  <cp:revision>72</cp:revision>
  <dc:subject/>
  <dc:title>CAP Cryptographic Analysis Program</dc:title>
</cp:coreProperties>
</file>